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69D-F775-4130-89ED-E1D50F7F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D16-D8D3-4CCF-916F-3C980E79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EDD-C16B-410E-A5D7-6CD787D9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5A0-6522-4FA3-9F83-46270AD3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44A-B6B5-4749-BC6D-5295D3E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6DA-DC01-4766-8141-D6FC3CC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3EF-EDA2-4B28-9C73-7A77781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E61-2266-4866-9FEC-D582B3DA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1AC-4421-473C-9B6C-061191F6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6BE-5D88-408C-9B71-3BC048CB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FD7-57F1-4E24-854A-A19BDF0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168-91BC-493C-B861-14A8604D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677-28CF-4352-8194-CF76138F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en-NZ" sz="4400" spc="-1" strike="noStrike">
                <a:solidFill>
                  <a:srgbClr val="000000"/>
                </a:solidFill>
                <a:latin typeface="Monotype Corsiva"/>
              </a:rPr>
              <a:t>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t Everest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May 1953 (65 years ago last month), Sir Edmund Hillary was the first person to walk up to the top of the Mt Ev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 was from New Zea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 reached the top and it is 29,000 feet 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t Everest is the tallest mountain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ir Edmund Hil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a photo of Sir Edmund Hillary climbing Mt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952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is is Mt Ev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t Everest is in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559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2:48:03Z</dcterms:created>
  <dc:creator>McDougall Family </dc:creator>
  <dc:description/>
  <dc:language>en-US</dc:language>
  <cp:lastModifiedBy>McDougall Family </cp:lastModifiedBy>
  <dcterms:modified xsi:type="dcterms:W3CDTF">2012-06-13T19:04:05Z</dcterms:modified>
  <cp:revision>5</cp:revision>
  <dc:subject/>
  <dc:title>Everest</dc:title>
</cp:coreProperties>
</file>